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89720-7E89-4253-A675-7E51B3772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6942-59B5-44D2-92EC-12412E51C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C32A0-61EC-43EC-90C9-5852EEC0D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D0096-AECD-4146-AD6F-A0D935B97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D6A91-169F-475B-B4A7-EE7DB2E2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11CD-5D6A-4EA2-B876-97D5C5419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FDE70-B34E-426D-91C3-73B28E9C1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7B43E-B01C-4B9F-A6F7-CA649352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7180E-7298-4C47-97DC-EE95C2CD8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7CB3-2673-465E-9DD8-31263FD7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351A-CFD9-420C-8C0E-B24DC2F1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9076-5A2B-40EE-A45E-E829848B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BFB2-2E2B-4321-A285-030701B58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837720"/>
            <a:ext cx="7924680" cy="184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The Process of Acquiring Knowledge in Mathematics for Grade 3 Pupil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Geonzon, Tiffany Ivana J.</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Torres, Georgia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ssessment Summar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Bradley Hand ITC"/>
              </a:rPr>
              <a:t>Assessing the students by giving them different activities and quizzes that will possibly cater their needs; and improve their cognitive skills. Individual activities and board works are ways that could enhance their needs. At the end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of the quarter, the students will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be given quarter exams for us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to know in what topic they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will exc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Unit Detail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rerequisite Skill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Bradley Hand ITC"/>
              </a:rPr>
              <a:t>Add, Subtract, Multiply and divide real numbers up to 2 digit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Multiply number to 12</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Ordering numbers and Rounding Off Number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Use place value to 100 000</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Able to use an expanded form of number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ake use of the order operation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M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	</a:t>
            </a:r>
            <a:r>
              <a:rPr b="0" lang="en-US" sz="2800" spc="-1" strike="noStrike">
                <a:solidFill>
                  <a:srgbClr val="000000"/>
                </a:solidFill>
                <a:latin typeface="Papyrus"/>
              </a:rPr>
              <a:t>	</a:t>
            </a:r>
            <a:r>
              <a:rPr b="1" lang="en-US" sz="2800" spc="-1" strike="noStrike">
                <a:solidFill>
                  <a:srgbClr val="000000"/>
                </a:solidFill>
                <a:latin typeface="Papyrus"/>
              </a:rPr>
              <a:t>Children learn to read and write, they continue to improve their cognitive skills for them to be more purposeful and deliberate. The children will be given enough opportunity and activities for them to enhance the skills needed to develop. Thus,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is unit will help students to enhance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ir cognitive level through different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ctivities that will develop their attention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d memory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Goals for the Pupi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Papyrus"/>
              </a:rPr>
              <a:t>Develop an adequate knowledge base of the general and specific information in the subject matter.</a:t>
            </a:r>
            <a:endParaRPr b="0" lang="en-US" sz="3200" spc="-1" strike="noStrike">
              <a:solidFill>
                <a:srgbClr val="000000"/>
              </a:solidFill>
              <a:latin typeface="Arial"/>
            </a:endParaRPr>
          </a:p>
          <a:p>
            <a:pPr marL="329040" indent="-329040">
              <a:lnSpc>
                <a:spcPct val="100000"/>
              </a:lnSpc>
              <a:spcBef>
                <a:spcPts val="751"/>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Develop a pattern of attributing both success and failure to the </a:t>
            </a:r>
            <a:r>
              <a:rPr b="1" lang="en-US" sz="3000" spc="-1" strike="noStrike">
                <a:solidFill>
                  <a:srgbClr val="000000"/>
                </a:solidFill>
                <a:latin typeface="Papyrus"/>
              </a:rPr>
              <a:t>effectiveness </a:t>
            </a:r>
            <a:endParaRPr b="0" lang="en-US" sz="30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of their efforts.</a:t>
            </a:r>
            <a:endParaRPr b="0" lang="en-US" sz="3200" spc="-1" strike="noStrike">
              <a:solidFill>
                <a:srgbClr val="000000"/>
              </a:solidFill>
              <a:latin typeface="Arial"/>
            </a:endParaRPr>
          </a:p>
          <a:p>
            <a:pPr marL="329040" indent="-32904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nhance their capability in solving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complex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21</a:t>
            </a:r>
            <a:r>
              <a:rPr b="1" lang="en-US" sz="4400" spc="-1" strike="noStrike" baseline="30000">
                <a:solidFill>
                  <a:srgbClr val="000000"/>
                </a:solidFill>
                <a:latin typeface="Papyrus"/>
              </a:rPr>
              <a:t>st</a:t>
            </a:r>
            <a:r>
              <a:rPr b="1" lang="en-US" sz="4400" spc="-1" strike="noStrike">
                <a:solidFill>
                  <a:srgbClr val="000000"/>
                </a:solidFill>
                <a:latin typeface="Papyrus"/>
              </a:rPr>
              <a:t> Century Skil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Papyrus"/>
              </a:rPr>
              <a:t>Self-Direction</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Accountability and Adaptability</a:t>
            </a:r>
            <a:endParaRPr b="0" lang="en-US" sz="3200" spc="-1" strike="noStrike">
              <a:solidFill>
                <a:srgbClr val="000000"/>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Problem Identification, Formulation, and Solution</a:t>
            </a:r>
            <a:endParaRPr b="0" lang="en-US" sz="3200" spc="-1" strike="noStrike">
              <a:solidFill>
                <a:srgbClr val="000000"/>
              </a:solidFill>
              <a:latin typeface="Arial"/>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Critical Thinking and System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Thinking</a:t>
            </a:r>
            <a:endParaRPr b="0" lang="en-US" sz="3200" spc="-1" strike="noStrike">
              <a:solidFill>
                <a:srgbClr val="000000"/>
              </a:solidFill>
              <a:latin typeface="Arial"/>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Social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Curriculum-Framing Questions</a:t>
            </a:r>
            <a:endParaRPr b="0" lang="en-US" sz="4400" spc="-1" strike="noStrike">
              <a:solidFill>
                <a:srgbClr val="000000"/>
              </a:solidFill>
              <a:latin typeface="Arial"/>
            </a:endParaRPr>
          </a:p>
        </p:txBody>
      </p:sp>
      <p:sp>
        <p:nvSpPr>
          <p:cNvPr id="50"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SSENTIAL QUESTION:</a:t>
            </a:r>
            <a:endParaRPr b="0" lang="en-US" sz="3200" spc="-1" strike="noStrike">
              <a:solidFill>
                <a:srgbClr val="000000"/>
              </a:solidFill>
              <a:latin typeface="Arial"/>
            </a:endParaRPr>
          </a:p>
          <a:p>
            <a:pPr marL="3189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How important is Mathematics in our Life?</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UNIT QUESTION:</a:t>
            </a:r>
            <a:endParaRPr b="0" lang="en-US" sz="3200" spc="-1" strike="noStrike">
              <a:solidFill>
                <a:srgbClr val="000000"/>
              </a:solidFill>
              <a:latin typeface="Arial"/>
            </a:endParaRPr>
          </a:p>
          <a:p>
            <a:pPr marL="3189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When should you apply the different mathematical computations to the society?</a:t>
            </a: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828440"/>
            <a:ext cx="8229600" cy="380988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ONTENT QUESTION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What are the four different mathematical operations?</a:t>
            </a:r>
            <a:endParaRPr b="0" lang="en-US" sz="3200" spc="-1" strike="noStrike">
              <a:solidFill>
                <a:srgbClr val="000000"/>
              </a:solidFill>
              <a:latin typeface="Arial"/>
            </a:endParaRPr>
          </a:p>
          <a:p>
            <a:pPr marL="332640" indent="-3326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What are the meanings of addition,</a:t>
            </a:r>
            <a:endParaRPr b="0" lang="en-US" sz="3200" spc="-1" strike="noStrike">
              <a:solidFill>
                <a:srgbClr val="000000"/>
              </a:solidFill>
              <a:latin typeface="Arial"/>
            </a:endParaRPr>
          </a:p>
          <a:p>
            <a:pPr marL="332640" indent="-3326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 </a:t>
            </a:r>
            <a:r>
              <a:rPr b="1" lang="en-US" sz="3200" spc="-1" strike="noStrike">
                <a:solidFill>
                  <a:srgbClr val="000000"/>
                </a:solidFill>
                <a:latin typeface="Bradley Hand ITC"/>
              </a:rPr>
              <a:t>subtraction, multiplication and di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ssessment Timelin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 students will begin 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Bradley Hand ITC"/>
              </a:rPr>
              <a:t>Group Activ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Social Interaction (getting to know each other activ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No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K-W-L Chart (introduction to the different operations: addition, subtra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ultiplication and divis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ssessment Timelin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tudents work on projects and complete tasks b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Bradley Hand ITC"/>
              </a:rPr>
              <a:t>Taking down not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Exercises (solving mathematical operations, assignme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rills and Practices (seatwor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	</a:t>
            </a:r>
            <a:r>
              <a:rPr b="1" lang="en-US" sz="2800" spc="-1" strike="noStrike">
                <a:solidFill>
                  <a:srgbClr val="000000"/>
                </a:solidFill>
                <a:latin typeface="Bradley Hand ITC"/>
              </a:rPr>
              <a:t>board work during and after th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discus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Observation Check-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fter project work is complet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No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Projects (involving the different operations in mathematic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K-W-L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23:22:52Z</dcterms:created>
  <dc:creator>nave1386</dc:creator>
  <dc:description/>
  <dc:language>en-US</dc:language>
  <cp:lastModifiedBy>lubert</cp:lastModifiedBy>
  <dcterms:modified xsi:type="dcterms:W3CDTF">2010-09-21T06:18:54Z</dcterms:modified>
  <cp:revision>3</cp:revision>
  <dc:subject/>
  <dc:title>The Process of Acquiring Knowledge in Mathematics for Grade 3 Pupils</dc:title>
</cp:coreProperties>
</file>